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85C-AF54-4BC3-AA51-CD7F62E8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299-447F-4735-BE3A-A5B46CE4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A36-1445-4BFC-8A54-CAB24139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E16-B1A0-4800-AD84-586991DF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A636-C0E2-446B-8CA5-6B2C1DEE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8052-AC0D-4243-9A2A-F83A9DB2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3F7-1A36-4201-A17F-78FD3C88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81C4-8B29-4734-868E-BAB44F05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0579-0776-4F56-9CA7-C05DC45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898-AA50-49F2-A90B-5A217573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4FE-1ABF-4074-8693-DC52147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1A4-4E6D-465E-8E52-6E1A93C6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777-8DD7-48F4-98B8-BD9658E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E531-F643-41F2-9316-26A355F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72D3-BC46-4240-B430-6ABCC74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60AB-FB1F-41B7-BB91-E37E3A2B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D36A-4992-457B-B5BF-05296D64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CF3D-70AE-4E69-816C-EBDF7F8B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E649-0330-497F-A6FD-A94FC20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73B7-899D-48BE-A032-F0E5A7F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6AF9-CA74-4B7E-94A0-2ED0FC3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8158-ABB1-4637-BF0E-9E1D74DF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1BC-BFFC-4238-8C2F-B40A12D9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F8E5-F364-42D7-8FC5-CEF2B70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ACAF-E028-4DD1-88FE-3EBD334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1884-375E-4768-99BB-1F8C024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D09E-EAE1-475D-B470-1759081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FE46-AF96-4930-8A1E-89918A5C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47AF-1391-454D-A9A0-1BEEA451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7000-F5EA-4B80-8C8E-F15872AC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E9C5-E4FB-412D-ACA2-A2FA2E20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E76D-DFC8-4D1E-BD07-60A30DC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0108-1BF1-4BD5-927B-ED8FAD4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C5F-E5CA-4601-B895-4CE45225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68D5-7A78-4E7F-AD8D-4CB8F97D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B6B9-6C55-46E9-9B24-C3B02C81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BFAA-DB9E-4669-BE7F-56E9C246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47CB-3C40-4D39-A7C2-747B07D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6096-13C5-4D1B-B9D6-52FD804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C849-54E0-43E6-8D37-E77CFAB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3F89-15D8-495D-BC88-4BD7515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B70C-3B51-4784-975F-B044FEFB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5EC0-D765-4B28-8586-C89B8AB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B61-931A-43CA-B75C-9C1A75E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9F3-6BC6-4D21-BF2B-5086382B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E99-2A2E-4309-8FA9-DF350DE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AF5-C3BC-47D8-9F26-2AC3382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EA0-563C-4E56-A08B-537E82C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72D-FE07-4E70-989E-DDA7DB24905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FFE-4D97-4D4A-AB2A-0FCE4AC030F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D16-6BB0-4030-A808-7C5BB7A238C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DBE4-4618-4315-8BDB-313148C96A3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5800" y="152280"/>
            <a:ext cx="800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c7031a"/>
                </a:solidFill>
                <a:latin typeface="CG Times (WN)"/>
              </a:rPr>
              <a:t>EXAMPLE OF Likert  Sc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514600" y="990720"/>
            <a:ext cx="1444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Strong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840120" y="990720"/>
            <a:ext cx="1444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632640" y="990720"/>
            <a:ext cx="1444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184720" y="752400"/>
            <a:ext cx="1444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 n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7824960" y="990720"/>
            <a:ext cx="1166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Strong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85800" y="1828800"/>
            <a:ext cx="18288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endorser is     trustworth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685800" y="411480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 endorser is an expert on the produc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685800" y="2971800"/>
            <a:ext cx="20574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endorser is</a:t>
            </a:r>
            <a:r>
              <a:rPr b="1" lang="en-US" sz="2000" spc="-1" strike="noStrike">
                <a:solidFill>
                  <a:srgbClr val="006600"/>
                </a:solidFill>
                <a:latin typeface="CG Times (WN)"/>
              </a:rPr>
              <a:t>    </a:t>
            </a: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attractive</a:t>
            </a:r>
            <a:r>
              <a:rPr b="1" lang="en-US" sz="2000" spc="-1" strike="noStrike">
                <a:solidFill>
                  <a:srgbClr val="006600"/>
                </a:solidFill>
                <a:latin typeface="CG Times (WN)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85800" y="548640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endorser is  knowledgeable  about the produc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28954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2670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5581800" y="2362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69292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8305920" y="2362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8954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42670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581800" y="3505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69292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Line 23"/>
          <p:cNvSpPr/>
          <p:nvPr/>
        </p:nvSpPr>
        <p:spPr>
          <a:xfrm>
            <a:off x="8305920" y="3505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28954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42670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5581800" y="48769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Line 27"/>
          <p:cNvSpPr/>
          <p:nvPr/>
        </p:nvSpPr>
        <p:spPr>
          <a:xfrm>
            <a:off x="69292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Line 28"/>
          <p:cNvSpPr/>
          <p:nvPr/>
        </p:nvSpPr>
        <p:spPr>
          <a:xfrm>
            <a:off x="8305920" y="48769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28954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Line 30"/>
          <p:cNvSpPr/>
          <p:nvPr/>
        </p:nvSpPr>
        <p:spPr>
          <a:xfrm>
            <a:off x="42670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31"/>
          <p:cNvSpPr/>
          <p:nvPr/>
        </p:nvSpPr>
        <p:spPr>
          <a:xfrm>
            <a:off x="5581800" y="6324480"/>
            <a:ext cx="52056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32"/>
          <p:cNvSpPr/>
          <p:nvPr/>
        </p:nvSpPr>
        <p:spPr>
          <a:xfrm>
            <a:off x="69292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33"/>
          <p:cNvSpPr/>
          <p:nvPr/>
        </p:nvSpPr>
        <p:spPr>
          <a:xfrm>
            <a:off x="8305920" y="6324480"/>
            <a:ext cx="44928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304920" y="18288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304920" y="29592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304920" y="41022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304920" y="54864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4T22:46:22Z</dcterms:created>
  <dc:creator>user</dc:creator>
  <dc:description/>
  <dc:language>en-US</dc:language>
  <cp:lastModifiedBy>user</cp:lastModifiedBy>
  <dcterms:modified xsi:type="dcterms:W3CDTF">2015-10-24T22:50:58Z</dcterms:modified>
  <cp:revision>1</cp:revision>
  <dc:subject/>
  <dc:title>PowerPoint Presentation</dc:title>
</cp:coreProperties>
</file>