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2A9-8A8B-41CE-9068-F1313DEF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1FA-5B7C-4915-8602-2751F70EC83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869-0FBB-4A38-A2F7-9455279C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2C3-5A7B-4508-A2F7-61D64B9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0CE-49C8-480A-B103-4F7B8644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ABE-A428-44A9-8E27-6EE83BC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B48E-1FEF-47B4-A727-1423F3A9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3A1-1666-46BE-990C-D53FCF7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467C-274D-42F8-85B0-5E872111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1756-658A-448D-875D-93660AD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1B3-CE20-41E4-ABBD-39F30E0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9778-5C0E-4E28-A832-26DAC30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537-8A92-469A-BC3B-5E084C8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082-5462-41F1-9310-806CB0E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B14-0ABA-485E-928E-4EB71F8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F13A-9C26-4FB2-AE30-8B82742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0FA7-ECBE-4728-971F-113E632D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7993-2B10-4027-8BE6-C6E811E4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B542-FA57-41E9-9199-3625C98C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6C6-D31A-4E7A-8156-46C7F97E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037-1A39-41DF-A060-B9FACC3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A74-0F86-49A8-AFF4-01A5A5E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40D-69C6-4F22-AC40-DC1BB1B5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750-ABA2-4EBA-991B-AD1D7C6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9C0-FBA4-4A37-A089-F953172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DEA-B9DE-4246-8984-EFC7178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5DE-A4DA-42E5-8AFB-A37ECDCFE8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37E-A10B-408F-A2C8-3612EBBAB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E0D-6BB2-458A-9651-E8981CEEE51C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3A3-4DB6-4A74-8E67-B4AA793C217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ample Likert-Scale Question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ate each item on the scale shown to indicate your level of agreement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believe in the Bill of Righ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think that everyone should vot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st politicians cannot be trust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0-24T22:54:41Z</dcterms:modified>
  <cp:revision>11</cp:revision>
  <dc:subject/>
  <dc:title>PowerPoint Presentation</dc:title>
</cp:coreProperties>
</file>