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91E-A454-4D01-8D92-B0F13DE0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4799-0D5A-4B76-BF41-82706336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E2FA-8CEB-41B7-8382-F9CD89AA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57E2-AD81-4016-958E-0191C210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AD2-8D1E-424D-8D2C-22CDD329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04C-C9F1-488D-B91C-49AE414D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A4C-B5D2-47EB-800F-6AD7FF4E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A13-8C10-4135-9CA1-39A99DB6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E16-8B4E-402B-B604-5BD7BA06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E5E-DB42-425B-AF1C-DB2C3061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679-DCCE-4F70-AFD2-C0EEAFDB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10D-C6DC-4A77-BF9F-F1C7DD25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0053-C2C7-4FBA-9B51-8AF507D1A082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7524720" y="6048360"/>
          <a:ext cx="16192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720" y="6048360"/>
                    <a:ext cx="16192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40c"/>
                </a:solidFill>
                <a:latin typeface="Times New Roman"/>
                <a:ea typeface="Times New Roman"/>
              </a:rPr>
              <a:t>Likert Item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42960" y="3286080"/>
          <a:ext cx="7772400" cy="755640"/>
        </p:xfrm>
        <a:graphic>
          <a:graphicData uri="http://schemas.openxmlformats.org/drawingml/2006/table">
            <a:tbl>
              <a:tblPr/>
              <a:tblGrid>
                <a:gridCol w="1928880"/>
                <a:gridCol w="1214280"/>
                <a:gridCol w="1143000"/>
                <a:gridCol w="1143000"/>
                <a:gridCol w="1143000"/>
                <a:gridCol w="1200240"/>
              </a:tblGrid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tatement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trongly Disagree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isagree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Undecided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gree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trongly Agree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Police officials at this station are helpful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  <p:sp>
        <p:nvSpPr>
          <p:cNvPr id="45" name="Rectangle 2"/>
          <p:cNvSpPr/>
          <p:nvPr/>
        </p:nvSpPr>
        <p:spPr>
          <a:xfrm>
            <a:off x="642960" y="243000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ate your level of agreement with the following statemen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07:44:52Z</dcterms:created>
  <dc:creator>Michael</dc:creator>
  <dc:description/>
  <dc:language>en-US</dc:language>
  <cp:lastModifiedBy>user</cp:lastModifiedBy>
  <dcterms:modified xsi:type="dcterms:W3CDTF">2015-10-24T22:57:21Z</dcterms:modified>
  <cp:revision>398</cp:revision>
  <dc:subject>Likert item analysis</dc:subject>
  <dc:title>UKUG2009</dc:title>
</cp:coreProperties>
</file>