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F3176-55FB-4A25-AC47-F7D699440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B7C02-B440-4231-907B-2BBDD129E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E39A7-3BCE-4B18-A361-D45111750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9A2B9-25DC-4C04-BC3B-DB9C09054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C5F1B-1521-4C8B-A620-F14D5AD86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96923-C263-4FFC-91BD-B4410DAD4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F76DD-DBF7-464A-A543-60D8C639F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C3B19-9D11-498B-A118-F462C1930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30B2E-4DFD-490D-AA25-734C39AAE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BD5D2-3F6C-45AD-9B47-03075BF08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7E207-81D7-4FEA-9F5A-DC6B7DB58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3CA70-BB01-497C-8EA4-9CF4B77CA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C3CC5-37BE-4695-B7BF-31EDEEBA45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ample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Box 4"/>
          <p:cNvSpPr/>
          <p:nvPr/>
        </p:nvSpPr>
        <p:spPr>
          <a:xfrm>
            <a:off x="304920" y="762120"/>
            <a:ext cx="8381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04920" y="1143000"/>
          <a:ext cx="8305560" cy="5181480"/>
        </p:xfrm>
        <a:graphic>
          <a:graphicData uri="http://schemas.openxmlformats.org/drawingml/2006/table">
            <a:tbl>
              <a:tblPr/>
              <a:tblGrid>
                <a:gridCol w="647640"/>
                <a:gridCol w="4308480"/>
                <a:gridCol w="669960"/>
                <a:gridCol w="669960"/>
                <a:gridCol w="669960"/>
                <a:gridCol w="669600"/>
                <a:gridCol w="669960"/>
              </a:tblGrid>
              <a:tr h="304920">
                <a:tc gridSpan="7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des: 1-strongly disagree, 2- disagree, 3- neutral, 4-agree, 5- strongly agre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45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/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ffirmative perception statement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d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09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i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PAC / Web OPAC was Easier to use than I expected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ii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t was Fun to us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iii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t was Easy to u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iv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t  helped me  in finding the documents  faster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v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t is Very difficult to us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vi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t is Very confusing to u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vii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 found more items than expected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viii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 am comfortable  with  simple searc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ix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 am comfortable  complex/Advance searc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x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 am comfortable  quick searc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xi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 am comfortable when using OPAC/Web OPA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" name="Rectangle 2"/>
          <p:cNvSpPr/>
          <p:nvPr/>
        </p:nvSpPr>
        <p:spPr>
          <a:xfrm>
            <a:off x="1440" y="762480"/>
            <a:ext cx="917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Q.18.Please measure  the following affirmative perceptions about your library  OPAC and Web OPAC use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27T06:58:21Z</dcterms:created>
  <dc:creator>Scott</dc:creator>
  <dc:description/>
  <dc:language>en-US</dc:language>
  <cp:lastModifiedBy>user</cp:lastModifiedBy>
  <dcterms:modified xsi:type="dcterms:W3CDTF">2015-10-24T21:59:56Z</dcterms:modified>
  <cp:revision>72</cp:revision>
  <dc:subject/>
  <dc:title>Likert Scale</dc:title>
</cp:coreProperties>
</file>